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C50F-ED9F-4D09-BC19-8EB2C35E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14C1-6063-4C7F-B5F3-F42495CB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B88E-1C46-443E-8DF9-0ADAB1D8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2E86-6CA6-495B-8B88-13ADDF5B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2C0D-0A88-45F0-B2A7-8845529C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820D-00D4-4BCC-979D-EB18B17F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938C-4E30-43A7-81DD-C72E528F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8C0B-C4C0-43DE-91BB-3077DB07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165E-92B0-4B73-B52D-0CB0F69E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67F4-FA10-4279-A353-45E4DE61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D8CA-5FD1-48BA-9D42-59057C38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014F-CF78-4225-9BA3-2968A9E4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39B9-B212-4F0D-887F-6F27FB91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507B-83FC-49C1-AD71-581E1548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2FEF-48E7-4F8F-A9FD-53BE172E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E509-5A90-44DF-9016-772C20D0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1DA4-7FF8-4CD9-9C1E-15CE01C7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24F6-9170-4E82-9A99-205411FE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FB39-2E20-4B48-923C-FA92EA8E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9BAF-A14D-40F0-B89F-7B3DE462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E755-0805-4AA1-B106-CC1E0FCE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CBE4-38EC-4A3F-A3C5-BF91FFCA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E146-FD0E-4E90-9C66-29B3CC93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1AF5-DEB0-4764-A978-90CB8086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800F-35F3-4612-BBFA-5E4CF53B87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43FB-F70E-43ED-B229-700B34E350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ct. 5, 200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.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mov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ir a lake in south america full of gold and jewels Incan Indian chieves honored there gods by throwing jewels into a lake and jumping in, coated with gold pow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:irrigate::manure: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ive:openly::jittery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. 6-Homewor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one paragraph about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ther Leon states that just for a minute the class was turned into Nazi Germany, what did he mean by thi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3:03:22Z</dcterms:created>
  <dc:creator>VMS</dc:creator>
  <dc:description/>
  <dc:language>en-US</dc:language>
  <cp:lastModifiedBy>VMS</cp:lastModifiedBy>
  <dcterms:modified xsi:type="dcterms:W3CDTF">2009-10-05T13:16:24Z</dcterms:modified>
  <cp:revision>2</cp:revision>
  <dc:subject/>
  <dc:title>English</dc:title>
</cp:coreProperties>
</file>